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F4F20-CB1D-4FB9-B71F-BA69D97D0B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583F-2561-4BE1-BA58-96AAE7907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53952-595D-4C26-ADD4-BA5CF7A67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34694"/>
                </a:solidFill>
                <a:latin typeface="Times New Roman"/>
              </a:rPr>
              <a:t>Figure 11.19 Apoptosis of human 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66AE1-D35B-4441-933D-77EBE40A6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34694"/>
                </a:solidFill>
                <a:latin typeface="Times New Roman"/>
              </a:rPr>
              <a:t>Figure 11.21 Effect of apoptosis during paw development in the m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B4D-F6E3-4484-B5D4-BA9CF5AD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817-D447-49C3-9518-BAE63DE7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8AB-9A77-4B91-BA3C-6CB0B29A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61A-5CA4-4B8C-B8FD-8EC9F7D9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6A9E-C710-4DAA-BEBA-3FDA1628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CBF1-5BA7-461F-B2B8-98CF3461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E80A-865B-49FB-9AF0-6CBC60D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495A-A1F6-42D2-9033-DE1FAFC7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6CE2-0E55-48E3-9769-7E8E0423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BE5D-C902-4FF2-83E5-54712061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2121-485B-49BC-BC2F-5DC4C971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0E1-957B-4E38-978B-50B755D8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D8F-CA96-4519-A80E-8CA5A43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4314-5E0F-447B-B464-4087A5E8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67D6-DFB6-49B2-8DC7-A8E14DB1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A36A-F672-49A7-9E7F-E7C12761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DBE6-7902-4F9A-906C-78BAB8E4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CBE-D277-467D-849B-E9FD22BE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CA7-19F8-4D4F-98F2-25EB34F9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9FE-BFAB-469B-8E4B-AB989286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A0B-35C1-40F6-9BC4-4ADEAA52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E73-9F76-46CD-97BA-9007E4AB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0DF-724D-4B5E-98E3-EB6DA49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FD4-4B4D-409C-8F6C-09F2C7E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2053E-7454-42B7-9A1D-8B0BFDEBF74A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F90D9-872B-42CE-8D2F-B7B8D2B96AAE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85DBA-774B-4288-895F-BE16F23D9F6B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59ECC-C61E-436F-BE6A-2536D066174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ed.com/talks/bonnie_bassler_on_how_bacteria_communicate.html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arm-U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do you communicate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 do you communicate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 do you think cells communicate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o you think bacteria can communicate? Explai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cep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Content Placeholder 4" descr="11_06CellSigOverview_1-L.jpg"/>
          <p:cNvPicPr/>
          <p:nvPr/>
        </p:nvPicPr>
        <p:blipFill>
          <a:blip r:embed="rId1"/>
          <a:stretch/>
        </p:blipFill>
        <p:spPr>
          <a:xfrm>
            <a:off x="549360" y="1873080"/>
            <a:ext cx="8042040" cy="37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rans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Content Placeholder 4" descr="11_06CellSigOverview_2-L.jpg"/>
          <p:cNvPicPr/>
          <p:nvPr/>
        </p:nvPicPr>
        <p:blipFill>
          <a:blip r:embed="rId1"/>
          <a:stretch/>
        </p:blipFill>
        <p:spPr>
          <a:xfrm>
            <a:off x="549360" y="1873080"/>
            <a:ext cx="8042040" cy="37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spon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Content Placeholder 4" descr="11_06CellSigOverview_3-L.jpg"/>
          <p:cNvPicPr/>
          <p:nvPr/>
        </p:nvPicPr>
        <p:blipFill>
          <a:blip r:embed="rId1"/>
          <a:stretch/>
        </p:blipFill>
        <p:spPr>
          <a:xfrm>
            <a:off x="549360" y="1873080"/>
            <a:ext cx="8042040" cy="37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0120" y="177480"/>
            <a:ext cx="826128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1. Reception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30120" y="1427040"/>
            <a:ext cx="8594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inding between signal molecule (</a:t>
            </a: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ligand</a:t>
            </a: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)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+ </a:t>
            </a:r>
            <a:r>
              <a:rPr b="1" lang="en-US" sz="2800" spc="-1" strike="noStrike">
                <a:solidFill>
                  <a:srgbClr val="00b050"/>
                </a:solidFill>
                <a:latin typeface="News Gothic MT"/>
              </a:rPr>
              <a:t>recepto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highly specific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ypes of Receptor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863640" indent="-51444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Plasma membrane recept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46240" indent="-51444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water-soluble ligand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863640" indent="-51444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Intracellular receptors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(cytoplasm, nucleu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46240" indent="-51444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drophobic or small ligan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1146240" indent="-51444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g. testosterone or nitric oxide (N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igand binds to receptor protein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protein changes </a:t>
            </a:r>
            <a:r>
              <a:rPr b="1" i="1" lang="en-US" sz="2800" spc="-1" strike="noStrike">
                <a:solidFill>
                  <a:srgbClr val="0000ff"/>
                </a:solidFill>
                <a:latin typeface="News Gothic MT"/>
              </a:rPr>
              <a:t>SHAPE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nitiate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News Gothic MT"/>
              </a:rPr>
              <a:t>transduction sig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646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307800"/>
            <a:ext cx="804204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G-Protein-Coupled Receptor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Content Placeholder 7" descr="11_07aGProteinCoupled-L.jpg"/>
          <p:cNvPicPr/>
          <p:nvPr/>
        </p:nvPicPr>
        <p:blipFill>
          <a:blip r:embed="rId1"/>
          <a:stretch/>
        </p:blipFill>
        <p:spPr>
          <a:xfrm>
            <a:off x="349200" y="1730520"/>
            <a:ext cx="3492720" cy="408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1_08GPCRStructure-L.jpg"/>
          <p:cNvPicPr/>
          <p:nvPr/>
        </p:nvPicPr>
        <p:blipFill>
          <a:blip r:embed="rId2"/>
          <a:stretch/>
        </p:blipFill>
        <p:spPr>
          <a:xfrm>
            <a:off x="4125960" y="2266920"/>
            <a:ext cx="47181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307800"/>
            <a:ext cx="804204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7c9f"/>
                </a:solidFill>
                <a:latin typeface="News Gothic MT"/>
              </a:rPr>
              <a:t>G-Protein-Coupled Receptor</a:t>
            </a: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4" name="Content Placeholder 5" descr="11_07bGProteinCoupled-L.jpg"/>
          <p:cNvPicPr/>
          <p:nvPr/>
        </p:nvPicPr>
        <p:blipFill>
          <a:blip r:embed="rId1"/>
          <a:stretch/>
        </p:blipFill>
        <p:spPr>
          <a:xfrm>
            <a:off x="600120" y="1600200"/>
            <a:ext cx="7940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17468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45260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7 transmembrane segments in membra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53684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G protein + GTP  activates enzyme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 cell respo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7c9f"/>
                </a:solidFill>
                <a:latin typeface="News Gothic MT"/>
              </a:rPr>
              <a:t>Receptor Tyrosine Kinase</a:t>
            </a: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8" name="Content Placeholder 4" descr="11_07cRTKs-L.jpg"/>
          <p:cNvPicPr/>
          <p:nvPr/>
        </p:nvPicPr>
        <p:blipFill>
          <a:blip r:embed="rId1"/>
          <a:stretch/>
        </p:blipFill>
        <p:spPr>
          <a:xfrm>
            <a:off x="993600" y="1225440"/>
            <a:ext cx="717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Attaches (P) to tyros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646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Activat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News Gothic MT"/>
                        </a:rPr>
                        <a:t>multip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 cellular responses at o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arm-U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004400"/>
            <a:ext cx="804204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are the structure &amp; function of these receptor proteins: GPCR, tyrosine kinase and ligand-gated ion channe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is a second messenger? What are some examples of these molecule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are the possible responses to signal transduction in a cell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560" y="107640"/>
            <a:ext cx="8521560" cy="17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7c9f"/>
                </a:solidFill>
                <a:latin typeface="News Gothic MT"/>
              </a:rPr>
              <a:t>Ligand-Gated Ion Channel</a:t>
            </a: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2" name="Content Placeholder 4" descr="11_07dIonChannelReceptors-L.jpg"/>
          <p:cNvPicPr/>
          <p:nvPr/>
        </p:nvPicPr>
        <p:blipFill>
          <a:blip r:embed="rId1"/>
          <a:stretch/>
        </p:blipFill>
        <p:spPr>
          <a:xfrm>
            <a:off x="277920" y="2122560"/>
            <a:ext cx="85946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Signal on receptor changes 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646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Regulate flow of specific 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(C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News Gothic MT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, 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News Gothic MT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17468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45260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7 transmembrane segments in membra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Attaches (P) to tyros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Signal on receptor changes sha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53684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G protein + GTP  activates enzyme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 cell respo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Activate </a:t>
                      </a: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News Gothic MT"/>
                        </a:rPr>
                        <a:t>multipl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 cellular responses at o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Regulate flow of specific 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(C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News Gothic MT"/>
                        </a:rPr>
                        <a:t>2+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, N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News Gothic MT"/>
                        </a:rPr>
                        <a:t>+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88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2. Transduction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9000" y="1136520"/>
            <a:ext cx="823284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95959"/>
                </a:solidFill>
                <a:uFillTx/>
                <a:latin typeface="News Gothic MT"/>
              </a:rPr>
              <a:t>Cascade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of molecular interactions relay signals from receptors </a:t>
            </a:r>
            <a:r>
              <a:rPr b="0" lang="en-US" sz="32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target molecul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News Gothic MT"/>
              </a:rPr>
              <a:t>Protein kinas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: enzyme that phosphorylates and activates proteins at next leve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95959"/>
                </a:solidFill>
                <a:uFillTx/>
                <a:latin typeface="News Gothic MT"/>
              </a:rPr>
              <a:t>Phosphorylation cascad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: enhance and amplify sign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11_10_PhosphorylatCascade-L.jpg"/>
          <p:cNvPicPr/>
          <p:nvPr/>
        </p:nvPicPr>
        <p:blipFill>
          <a:blip r:embed="rId1"/>
          <a:stretch/>
        </p:blipFill>
        <p:spPr>
          <a:xfrm>
            <a:off x="314280" y="136440"/>
            <a:ext cx="85154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Second Messenger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9000" y="864720"/>
            <a:ext cx="823284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mall, nonprotein molecules/ions that can relay signal inside cel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g. </a:t>
            </a:r>
            <a:r>
              <a:rPr b="1" lang="en-US" sz="2800" spc="-1" strike="noStrike">
                <a:solidFill>
                  <a:srgbClr val="c00000"/>
                </a:solidFill>
                <a:latin typeface="News Gothic MT"/>
              </a:rPr>
              <a:t>cyclic AMP (cAMP), calcium ions (C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News Gothic MT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News Gothic MT"/>
              </a:rPr>
              <a:t>), inositol triphosphate (IP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News Gothic MT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News Gothic MT"/>
              </a:rPr>
              <a:t>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2" name="Picture 6" descr="11_14CalciumAndIP3_3-L.jpg"/>
          <p:cNvPicPr/>
          <p:nvPr/>
        </p:nvPicPr>
        <p:blipFill>
          <a:blip r:embed="rId1"/>
          <a:stretch/>
        </p:blipFill>
        <p:spPr>
          <a:xfrm>
            <a:off x="2119320" y="2716200"/>
            <a:ext cx="48880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AM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958320"/>
            <a:ext cx="804204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MP = cyclic adenosine monophosph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PCR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denylyl cyclase (convert ATP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cAMP)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ctivate protein kinase A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5" name="Picture 5" descr="11_12cAMPSecondMessenger-L.jpg"/>
          <p:cNvPicPr/>
          <p:nvPr/>
        </p:nvPicPr>
        <p:blipFill>
          <a:blip r:embed="rId1"/>
          <a:stretch/>
        </p:blipFill>
        <p:spPr>
          <a:xfrm>
            <a:off x="2973240" y="2846520"/>
            <a:ext cx="3888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4520" y="888840"/>
            <a:ext cx="804240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3. Response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800" y="1836720"/>
            <a:ext cx="51274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gulate protein synthesis by turning on/off genes in nucleus (gene expression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gulate activity of proteins in cytoplasm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8" name="Picture 4" descr="11_15NuclearResponse-L.jpg"/>
          <p:cNvPicPr/>
          <p:nvPr/>
        </p:nvPicPr>
        <p:blipFill>
          <a:blip r:embed="rId1"/>
          <a:stretch/>
        </p:blipFill>
        <p:spPr>
          <a:xfrm>
            <a:off x="5232240" y="1128600"/>
            <a:ext cx="37195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 Example of Cell Communic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http://learn.genetics.utah.edu/content/begin/cells/cellcom/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Signal Transduction Pathway Problems/Defects: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Examples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abe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olera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utoimmune diseas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nce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urotoxins, poisons, pesticid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rugs (anesthetics, antihistamines, blood pressure med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Communic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CHAPTER 11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6" name="Picture 4" descr="11_01GazelleFlight-L.jpg"/>
          <p:cNvPicPr/>
          <p:nvPr/>
        </p:nvPicPr>
        <p:blipFill>
          <a:blip r:embed="rId1"/>
          <a:stretch/>
        </p:blipFill>
        <p:spPr>
          <a:xfrm>
            <a:off x="2706840" y="3863880"/>
            <a:ext cx="3757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55880" y="107640"/>
            <a:ext cx="483552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oler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7560" y="2828880"/>
            <a:ext cx="40100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sease acquired by drinking contaminated water (w/human fec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acteria (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Vibrio cholera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) colonizes lining of small intestine and produces tox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46440" y="2217240"/>
            <a:ext cx="4299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xin modifies G-protein involved in regulating salt &amp; water 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 protein stuck in active form </a:t>
            </a:r>
            <a:r>
              <a:rPr b="0" lang="en-US" sz="24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intestinal cells secrete salts, wat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fected person develops profuse diarrhea and could die from loss of water and sal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56" name="Picture 2" descr="http://www.schmidtandclark.com/wp-content/uploads/cholera.jpg"/>
          <p:cNvPicPr/>
          <p:nvPr/>
        </p:nvPicPr>
        <p:blipFill>
          <a:blip r:embed="rId1"/>
          <a:stretch/>
        </p:blipFill>
        <p:spPr>
          <a:xfrm>
            <a:off x="549360" y="306360"/>
            <a:ext cx="2936880" cy="2227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www.herbalgranny.com/wp-content/uploads/2009/08/cholera-bacteria.jpg"/>
          <p:cNvPicPr/>
          <p:nvPr/>
        </p:nvPicPr>
        <p:blipFill>
          <a:blip r:embed="rId2"/>
          <a:stretch/>
        </p:blipFill>
        <p:spPr>
          <a:xfrm>
            <a:off x="6593040" y="306360"/>
            <a:ext cx="2252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iagr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9000" y="3941640"/>
            <a:ext cx="80420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sed as treatment for erectile dysfunc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hibits hydrolysis of cGMP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GMP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longs signal to relax smooth muscle in artery walls; increase blood flow to peni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60" name="Picture 4" descr="http://www.marketingpilgrim.com/wp-content/uploads/2009/10/viagra.jpg"/>
          <p:cNvPicPr/>
          <p:nvPr/>
        </p:nvPicPr>
        <p:blipFill>
          <a:blip r:embed="rId1"/>
          <a:stretch/>
        </p:blipFill>
        <p:spPr>
          <a:xfrm>
            <a:off x="4834080" y="1003320"/>
            <a:ext cx="3946320" cy="2817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11_01ViagraBoundToEnzyme-U"/>
          <p:cNvPicPr/>
          <p:nvPr/>
        </p:nvPicPr>
        <p:blipFill>
          <a:blip r:embed="rId2"/>
          <a:stretch/>
        </p:blipFill>
        <p:spPr>
          <a:xfrm>
            <a:off x="549360" y="1003320"/>
            <a:ext cx="3763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static.ddmcdn.com/gif/viagra-chemicals.gif"/>
          <p:cNvPicPr/>
          <p:nvPr/>
        </p:nvPicPr>
        <p:blipFill>
          <a:blip r:embed="rId1"/>
          <a:stretch/>
        </p:blipFill>
        <p:spPr>
          <a:xfrm>
            <a:off x="1630440" y="1162080"/>
            <a:ext cx="5968800" cy="5224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News Gothic MT"/>
              </a:rPr>
              <a:t>Viagra inhibits cGMP breakdown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4" name="10-Point Star 8"/>
          <p:cNvSpPr/>
          <p:nvPr/>
        </p:nvSpPr>
        <p:spPr>
          <a:xfrm>
            <a:off x="5921280" y="3747960"/>
            <a:ext cx="1784520" cy="1724040"/>
          </a:xfrm>
          <a:custGeom>
            <a:avLst/>
            <a:gdLst>
              <a:gd name="textAreaLeft" fmla="*/ 378360 w 1784520"/>
              <a:gd name="textAreaRight" fmla="*/ 1406160 w 1784520"/>
              <a:gd name="textAreaTop" fmla="*/ 519120 h 1724040"/>
              <a:gd name="textAreaBottom" fmla="*/ 1204920 h 1724040"/>
            </a:gdLst>
            <a:ahLst/>
            <a:rect l="textAreaLeft" t="textAreaTop" r="textAreaRight" b="textAreaBottom"/>
            <a:pathLst>
              <a:path w="1784350" h="1724025">
                <a:moveTo>
                  <a:pt x="-1" y="595633"/>
                </a:moveTo>
                <a:lnTo>
                  <a:pt x="378576" y="519120"/>
                </a:lnTo>
                <a:lnTo>
                  <a:pt x="340777" y="164627"/>
                </a:lnTo>
                <a:lnTo>
                  <a:pt x="695997" y="307204"/>
                </a:lnTo>
                <a:lnTo>
                  <a:pt x="892175" y="0"/>
                </a:lnTo>
                <a:lnTo>
                  <a:pt x="1088353" y="307204"/>
                </a:lnTo>
                <a:lnTo>
                  <a:pt x="1443573" y="164627"/>
                </a:lnTo>
                <a:lnTo>
                  <a:pt x="1405774" y="519120"/>
                </a:lnTo>
                <a:lnTo>
                  <a:pt x="1784351" y="595633"/>
                </a:lnTo>
                <a:lnTo>
                  <a:pt x="1527016" y="862013"/>
                </a:lnTo>
                <a:lnTo>
                  <a:pt x="1784351" y="1128392"/>
                </a:lnTo>
                <a:lnTo>
                  <a:pt x="1405774" y="1204905"/>
                </a:lnTo>
                <a:lnTo>
                  <a:pt x="1443573" y="1559398"/>
                </a:lnTo>
                <a:lnTo>
                  <a:pt x="1088353" y="1416821"/>
                </a:lnTo>
                <a:lnTo>
                  <a:pt x="892175" y="1724025"/>
                </a:lnTo>
                <a:lnTo>
                  <a:pt x="695997" y="1416821"/>
                </a:lnTo>
                <a:lnTo>
                  <a:pt x="340777" y="1559398"/>
                </a:lnTo>
                <a:lnTo>
                  <a:pt x="378576" y="1204905"/>
                </a:lnTo>
                <a:lnTo>
                  <a:pt x="-1" y="1128392"/>
                </a:lnTo>
                <a:lnTo>
                  <a:pt x="257334" y="862013"/>
                </a:lnTo>
                <a:lnTo>
                  <a:pt x="-1" y="59563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poptosis = cell suic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9000" y="1270080"/>
            <a:ext cx="80420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ell is dismantled and diges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riggered by signals that activate cascade of </a:t>
            </a:r>
            <a:r>
              <a:rPr b="0" lang="ja-JP" sz="28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uicide</a:t>
            </a:r>
            <a:r>
              <a:rPr b="0" lang="ja-JP" sz="2800" spc="-1" strike="noStrike">
                <a:solidFill>
                  <a:srgbClr val="595959"/>
                </a:solidFill>
                <a:latin typeface="News Gothic MT"/>
              </a:rPr>
              <a:t>”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proteins (</a:t>
            </a: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caspas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tect neighboring cells from damag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imal development &amp; maintenanc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ay be involved in some diseases (Parkinson’s, Alzheimer’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5680" y="3807000"/>
            <a:ext cx="8416800" cy="102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poptosis of a human white blood cell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31920" y="5067000"/>
            <a:ext cx="84564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 MT"/>
              </a:rPr>
              <a:t>Left: Normal WBC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 MT"/>
              </a:rPr>
              <a:t>Right: WBC undergoing apoptosis – shrinking and forming lobes (</a:t>
            </a:r>
            <a:r>
              <a:rPr b="0" lang="ja-JP" sz="20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News Gothic MT"/>
              </a:rPr>
              <a:t>blebs</a:t>
            </a:r>
            <a:r>
              <a:rPr b="0" lang="ja-JP" sz="2000" spc="-1" strike="noStrike">
                <a:solidFill>
                  <a:srgbClr val="000000"/>
                </a:solidFill>
                <a:latin typeface="News Gothic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News Gothic MT"/>
              </a:rPr>
              <a:t>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69" name="Picture Placeholder 5" descr="11_20ApoptosisWBC-L.jpg"/>
          <p:cNvPicPr/>
          <p:nvPr/>
        </p:nvPicPr>
        <p:blipFill>
          <a:blip r:embed="rId1"/>
          <a:srcRect l="0" t="18759" r="0" b="18759"/>
          <a:stretch/>
        </p:blipFill>
        <p:spPr>
          <a:xfrm>
            <a:off x="371520" y="569880"/>
            <a:ext cx="8400960" cy="283680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4060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Effect of apoptosis during paw development in the mous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1" name="Picture 11" descr="11_22_ApoptosisPawDev-L.jpg"/>
          <p:cNvPicPr/>
          <p:nvPr/>
        </p:nvPicPr>
        <p:blipFill>
          <a:blip r:embed="rId1"/>
          <a:stretch/>
        </p:blipFill>
        <p:spPr>
          <a:xfrm>
            <a:off x="298440" y="2219400"/>
            <a:ext cx="85471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7080" y="81000"/>
            <a:ext cx="749808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What you should know: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12680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3 stages of cell communication: reception, transduction, and respons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ow G-protein-coupled receptors receive signals and start transduction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ow receptor tyrosine kinase receive cell signals and start transduction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ow a cell signal is amplified by a phosphorylation cascad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ow a cell response in the nucleus turns on genes while in the cytoplasm it activates enzyme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apoptosis means and why it is important to normal functioning of multicellular organism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Do bacteria communicate?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030a0"/>
                </a:solidFill>
                <a:uFillTx/>
                <a:latin typeface="News Gothic MT"/>
                <a:hlinkClick r:id="rId1"/>
              </a:rPr>
              <a:t>Bonnie Bassler on How Bacteria </a:t>
            </a:r>
            <a:r>
              <a:rPr b="0" lang="ja-JP" sz="2200" spc="-1" strike="noStrike">
                <a:solidFill>
                  <a:srgbClr val="898989"/>
                </a:solidFill>
                <a:latin typeface="News Gothic MT"/>
              </a:rPr>
              <a:t>“</a:t>
            </a:r>
            <a:r>
              <a:rPr b="0" lang="en-US" sz="2200" spc="-1" strike="noStrike">
                <a:solidFill>
                  <a:srgbClr val="898989"/>
                </a:solidFill>
                <a:latin typeface="News Gothic MT"/>
              </a:rPr>
              <a:t>Talk</a:t>
            </a:r>
            <a:r>
              <a:rPr b="0" lang="ja-JP" sz="2200" spc="-1" strike="noStrike">
                <a:solidFill>
                  <a:srgbClr val="898989"/>
                </a:solidFill>
                <a:latin typeface="News Gothic MT"/>
              </a:rPr>
              <a:t>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ideo Questions: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y are scientists studying how </a:t>
            </a:r>
            <a:r>
              <a:rPr b="0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bacteria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and not just human cells) communicate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is quorum sensing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scribe how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Vibrio fischeri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 quorum sensing in squi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ccording to Bonnie Bassler (Princeton University), what are scientists hoping to use as the next class of antibiotic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35000"/>
            <a:ext cx="8042040" cy="13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Signal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31840" y="1789200"/>
            <a:ext cx="56592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Animal cells communicate by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rect contact (gap junction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reting local regulators (growth factors, neurotransmitter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ng distance (hormone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5" name="Picture 7" descr="11_04DirectContact-L.jpg"/>
          <p:cNvPicPr/>
          <p:nvPr/>
        </p:nvPicPr>
        <p:blipFill>
          <a:blip r:embed="rId1"/>
          <a:stretch/>
        </p:blipFill>
        <p:spPr>
          <a:xfrm>
            <a:off x="5722920" y="2306520"/>
            <a:ext cx="34034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Content Placeholder 3" descr="11_05_LocalLongDistance-L.jpg"/>
          <p:cNvPicPr/>
          <p:nvPr/>
        </p:nvPicPr>
        <p:blipFill>
          <a:blip r:embed="rId1"/>
          <a:stretch/>
        </p:blipFill>
        <p:spPr>
          <a:xfrm>
            <a:off x="77760" y="1235160"/>
            <a:ext cx="902196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23428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7c9f"/>
                </a:solidFill>
                <a:latin typeface="News Gothic MT"/>
              </a:rPr>
              <a:t>3 Stages of Cell Signaling: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Recep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: Detection of a signal molecule (</a:t>
            </a:r>
            <a:r>
              <a:rPr b="0" lang="en-US" sz="2800" spc="-1" strike="noStrike">
                <a:solidFill>
                  <a:srgbClr val="ff0000"/>
                </a:solidFill>
                <a:latin typeface="News Gothic MT"/>
              </a:rPr>
              <a:t>ligan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) coming from outside the cel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Transduc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: Convert signal to a form that can bring about a cellular respons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Respons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: Cellular response to the signal molecu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56:22Z</dcterms:created>
  <dc:creator>local</dc:creator>
  <dc:description/>
  <dc:language>en-US</dc:language>
  <cp:lastModifiedBy>local</cp:lastModifiedBy>
  <dcterms:modified xsi:type="dcterms:W3CDTF">2014-03-04T19:04:37Z</dcterms:modified>
  <cp:revision>37</cp:revision>
  <dc:subject/>
  <dc:title>Warm-Up</dc:title>
</cp:coreProperties>
</file>